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986-7F66-4FE6-9C24-81129EA1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A360-1E48-4600-8486-95D9CEC1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E75E-6E60-42F4-8569-86CAEE36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6908-3298-49F1-9443-1966D281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F001-3E12-45EC-ADB9-65DDCEC6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90C2-9639-4F7D-AE54-3B15FB9E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00D5-4586-44D4-B6F0-C3E92763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08A2-EE1F-4539-9A4F-426250BF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D872-C301-4DA0-8D16-F3ED8D3D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D9C5-A0D2-4DA5-A31A-2FA9AFDE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D689-236D-4430-AD02-B01112A7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662A-2298-48E7-87B1-E22E324E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83FE-BA8E-4605-AE49-B4A7B7AC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BC2A-D66B-4C4D-B9FC-31964D2C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C255-3BDD-4AE9-9D91-01BCCA14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64AE-7174-4F27-A19D-8355396E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F3A5-84DE-495E-897A-6D9D2E78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4A7-3141-4DF4-8AAC-08CFB2DF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B27-DBE9-4408-AC89-A6147AC6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7C0C-83E7-4C1F-931C-65A9EC1F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5769-C543-410C-8813-0025AFE8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F9D8-2F9A-43AE-830B-2CC2EEFE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55E0-5D9C-4729-B5BA-8A9E3622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7A4-C29D-428E-A2E3-E0558B7F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6D40-B1E4-4745-A3D7-8A1E306114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3AB2-BE4B-4DBC-887A-56CCC8BACD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d943f"/>
                </a:solidFill>
                <a:latin typeface="Arial"/>
              </a:rPr>
              <a:t>Проектная работа по технологии</a:t>
            </a: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на тему: </a:t>
            </a:r>
            <a:br>
              <a:rPr sz="4000"/>
            </a:br>
            <a:r>
              <a:rPr b="1" lang="ru-RU" sz="4000" spc="-1" strike="noStrike">
                <a:solidFill>
                  <a:srgbClr val="666729"/>
                </a:solidFill>
                <a:latin typeface="Arial Black"/>
              </a:rPr>
              <a:t>«Водопровод </a:t>
            </a:r>
            <a:br>
              <a:rPr sz="4000"/>
            </a:br>
            <a:r>
              <a:rPr b="1" lang="ru-RU" sz="4000" spc="-1" strike="noStrike">
                <a:solidFill>
                  <a:srgbClr val="666729"/>
                </a:solidFill>
                <a:latin typeface="Arial Black"/>
              </a:rPr>
              <a:t>посёлка </a:t>
            </a:r>
            <a:br>
              <a:rPr sz="4000"/>
            </a:br>
            <a:r>
              <a:rPr b="1" lang="ru-RU" sz="4000" spc="-1" strike="noStrike">
                <a:solidFill>
                  <a:srgbClr val="666729"/>
                </a:solidFill>
                <a:latin typeface="Arial Black"/>
              </a:rPr>
              <a:t>  Калитино».</a:t>
            </a:r>
            <a:br>
              <a:rPr sz="4000"/>
            </a:br>
            <a:r>
              <a:rPr b="1" lang="ru-RU" sz="4000" spc="-1" strike="noStrike">
                <a:solidFill>
                  <a:srgbClr val="666729"/>
                </a:solidFill>
                <a:latin typeface="Arial"/>
              </a:rPr>
              <a:t>  </a:t>
            </a:r>
            <a:br>
              <a:rPr sz="4000"/>
            </a:br>
            <a:r>
              <a:rPr b="1" lang="ru-RU" sz="4000" spc="-1" strike="noStrike">
                <a:solidFill>
                  <a:srgbClr val="666729"/>
                </a:solidFill>
                <a:latin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666729"/>
                </a:solidFill>
                <a:latin typeface="Arial"/>
              </a:rPr>
              <a:t>Ромашко Е.</a:t>
            </a:r>
            <a:endParaRPr b="0" lang="en-US" sz="2400" spc="-1" strike="noStrike">
              <a:solidFill>
                <a:srgbClr val="66672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Современная водонапорная башня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11" name="" descr="Водоснабжение садовых участков. Водокапорная башня, насосы, автоматика."/>
          <p:cNvPicPr/>
          <p:nvPr/>
        </p:nvPicPr>
        <p:blipFill>
          <a:blip r:embed="rId1"/>
          <a:stretch/>
        </p:blipFill>
        <p:spPr>
          <a:xfrm>
            <a:off x="1371600" y="1376280"/>
            <a:ext cx="5486400" cy="5100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729"/>
                </a:solidFill>
                <a:latin typeface="Arial"/>
              </a:rPr>
              <a:t>Принцип работы водонапорной башни.</a:t>
            </a:r>
            <a:br>
              <a:rPr sz="2800"/>
            </a:br>
            <a:endParaRPr b="0" lang="en-US" sz="28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ущенный в), подает воду в Когда вода поднимается до верхней отметки (В) в водонапорной башне, датчик уровня дает команду насосу на отключение. Включением и отключением насоса занимается простейшая автоматика (А), размещенная в павильоне (4). По мере разбора воды из башни по магистрали (5), уровень поверхности понижается, и по достижении отметки (Н), датчик уровня (ДУ) дает команду на включение насоса. Таким образом, в башне постоянно находится запас воды, определяющийся объемом башни от нулевой отметки до уровня (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729"/>
                </a:solidFill>
                <a:latin typeface="Arial"/>
              </a:rPr>
              <a:t>Условия, когда имеет смысл устанавливать водонапорную башню:</a:t>
            </a:r>
            <a:endParaRPr b="0" lang="en-US" sz="28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ое количество водопотребител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енно летнее (t&gt;0°) использование системы водоснабж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ы частые перебои с электропитание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ой запас в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729"/>
                </a:solidFill>
                <a:latin typeface="Arial"/>
              </a:rPr>
              <a:t>Наружные водопроводные сети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допроводная сеть предназначена для транспортирования воды от источника к месту потребления. Она является практически единственным элементом системы водоснабжения и состоит из магистральных и распределительных ли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гистральные линии предназначены для транспортирования транзитной воды в пределах объекта водоснабжения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пределительные линии прокладываются в необходимых точках при транспортировании воды от магистралей к потребителю. Если водопроводная сеть питает один дом, то функции магистральных и распределительных линий совмещаются в одной нит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729"/>
                </a:solidFill>
                <a:latin typeface="Arial"/>
              </a:rPr>
              <a:t>Сети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ис. 5. Схемы водопроводных сетей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— тупиковая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— кольцевая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— комбинир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водопроводные сети"/>
          <p:cNvPicPr/>
          <p:nvPr/>
        </p:nvPicPr>
        <p:blipFill>
          <a:blip r:embed="rId2"/>
          <a:stretch/>
        </p:blipFill>
        <p:spPr>
          <a:xfrm>
            <a:off x="685800" y="3124080"/>
            <a:ext cx="6553080" cy="3353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729"/>
                </a:solidFill>
                <a:latin typeface="Arial"/>
              </a:rPr>
              <a:t>Монтаж внутренних сетей</a:t>
            </a:r>
            <a:br>
              <a:rPr sz="3600"/>
            </a:b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22" name="" descr="Монтаж водопроводного ввода"/>
          <p:cNvPicPr/>
          <p:nvPr/>
        </p:nvPicPr>
        <p:blipFill>
          <a:blip r:embed="rId1"/>
          <a:stretch/>
        </p:blipFill>
        <p:spPr>
          <a:xfrm>
            <a:off x="228600" y="1447920"/>
            <a:ext cx="7315200" cy="5184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6729"/>
                </a:solidFill>
                <a:latin typeface="Arial"/>
              </a:rPr>
              <a:t>Монтаж внутренних сетей</a:t>
            </a:r>
            <a:br>
              <a:rPr sz="3600"/>
            </a:b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нтаж внутренних сетей водопровода начинают с установки водопроводных вводов (рис. 6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ис. 1. Монтаж водопроводного вв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— наружный водопровод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— задвижка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— колодец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— вентили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— дворовая сеть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— водомер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— контрольный патрубок со сливом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— стояк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— распределительная се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729"/>
                </a:solidFill>
                <a:latin typeface="Arial"/>
              </a:rPr>
              <a:t>Шахтные водозаборы</a:t>
            </a:r>
            <a:br>
              <a:rPr sz="3600"/>
            </a:b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7386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Шахтные колодцы используют, как правило, в первых от поверхности безнапорных водоносных пластах, сложенных рыхлыми породами на глубине до 30 м. Шахтный водозабор представляет собой вертикальный колодец круглой или квадратной формы с мощным креплением стенок. Нижнюю водоприемную часть его врезают в водоносный слой грунта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Шахтный колодец является наиболее распространенным типом местного водозабора (рис. 7). Он прост в эксплуатации и при грамотном сооружении и хорошем дебите подземных вод служит надежным и долговечным источником хозяйственной и питьев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ды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Шахтный водозабор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28" name="" descr="Шахтный колодец с ручным насосом"/>
          <p:cNvPicPr/>
          <p:nvPr/>
        </p:nvPicPr>
        <p:blipFill>
          <a:blip r:embed="rId1"/>
          <a:stretch/>
        </p:blipFill>
        <p:spPr>
          <a:xfrm>
            <a:off x="1828800" y="1371600"/>
            <a:ext cx="4191120" cy="5046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Каптажный водозабор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птажный водозабор для восходящих родников, которые чаще всего встречаются на равнинной местности, — это круглая или прямоугольная шахта-колодец без дна. Сооружают такие колодцы из камня, кирпича, бетона или древесины, а их размеры зависят от площади, на которой есть родники. Над шахтой устраивают кровлю или перекрыт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6729"/>
                </a:solidFill>
                <a:uFillTx/>
                <a:latin typeface="Arial"/>
              </a:rPr>
              <a:t>1. Общие сведенья о водопроводе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провод- это сложное сооружение, которое централизованно обеспечивает водой город, поселок, промышленное или хозяйственные водопроводы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альный водопрово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беспечивает питьевой водой население, удовлетворяет бытовые потребности людей на заводах и организациях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омышленный водопрово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удовлетворяет только производственные и технологические потреб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древних времен санитарно-технические системы (системы водоснабжения,канализации, отопления) играли очень важную роль в развитии древних мегаполисов. Если посмотреть историю их развития на примере древнего Рима, то можно заметить, что уже в те, далекие времена человечество достигло выдающихся результатов, которыми можно гордиться и в настояще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729"/>
                </a:solidFill>
                <a:latin typeface="Arial"/>
              </a:rPr>
              <a:t>Схема Каптажного водозабора 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32" name="" descr="Каптаж восходящего родника"/>
          <p:cNvPicPr/>
          <p:nvPr/>
        </p:nvPicPr>
        <p:blipFill>
          <a:blip r:embed="rId1"/>
          <a:stretch/>
        </p:blipFill>
        <p:spPr>
          <a:xfrm>
            <a:off x="457200" y="1523880"/>
            <a:ext cx="6781680" cy="487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729"/>
                </a:solidFill>
                <a:latin typeface="Arial"/>
              </a:rPr>
              <a:t>Насосная станция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34" name="" descr="Типы и конструкции насосных станций"/>
          <p:cNvPicPr/>
          <p:nvPr/>
        </p:nvPicPr>
        <p:blipFill>
          <a:blip r:embed="rId1"/>
          <a:stretch/>
        </p:blipFill>
        <p:spPr>
          <a:xfrm>
            <a:off x="533520" y="1447920"/>
            <a:ext cx="7010280" cy="4800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Типы насосных станций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земные насосные стан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сположены полностью под землей и, как правило, не имеют надземной части (верхнего строения). Они невелики и управление ими автоматизирован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емных насосных станция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тка пола машинного зала определяется планировочными отметками окружающей земли. В этих станциях при необходимости предусматривается въезд автомобиля в машинный зал, и насосы к месту установки могут быть поданы подъемно-транспортным оборудованием непосредственно с кузова автомоби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заглубленных насосных станция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 машинного зала заглублен по отношению к поверхности окружающей земли. Характерной особенностью таких станций является отсутствие перекрытия между первым этажом и машинным залом. Одно и то же подъемно-транспортное оборудование обслуживает монтажную площадку на уровне первого этажа и заглубленный машинный зал. Особенностью заглубленных насосных станций является наличие перекрытия между машинным залом и первым этаж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666729"/>
                </a:solidFill>
                <a:uFillTx/>
                <a:latin typeface="Arial"/>
              </a:rPr>
              <a:t>5.Технические характеристики воды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7386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казатели качества в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мператур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птимальная величина для питьевых целей от 7 до 11 градусов Цельсия, предельно-допустимая - плюс 35 градусов; предельная температура воды, используемой для охлаждения теплообменных аппаратов, обусловлена экономикой их работы и технологическими требова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вкус и запах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епятствуют использованию воды для питьевых целей; для воды питьевого качества привкус и запах при температуре ее 20 градусов должен быть не более 2 бал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ветность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дает воде неприятный вид; указывает на загрязнение воды органическими веществами; препятствует использованию воды для некоторых производств (например, при изготовлении бумаги высоких сортов); допускаемая величина - в среднем за год не более 20 граду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щее число бактерий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является общим показателем развития микрофлоры и микрофауны в воде; для воды питьевого качества допускается наличие не более 100 бактерий в 1 мл воды. </a:t>
            </a:r>
            <a:br>
              <a:rPr sz="2000"/>
            </a:br>
            <a:br>
              <a:rPr sz="20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729"/>
                </a:solidFill>
                <a:latin typeface="Arial"/>
              </a:rPr>
              <a:t>Характеристика района и территории</a:t>
            </a:r>
            <a:br>
              <a:rPr sz="3600"/>
            </a:b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пос. Калитино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литино расположен в 80 км юго-западнее г. Санкт-Перербурга, в 18 км от  районного центра Волосово и в 8 км от ближайшей железнодорожной станции «Кикерино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мат района влажный и прохладный. Среднегодовая температура воздуха колеблется от плюс 3 С до 4 С. Средняя температура самого холодного месяца (января) составляет минус 9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вы подзолистые и дерново-подзолистые. Грунты на территории сложены: суглинки, супести, известняк и пес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ием для фундаментов будут служить суглинки с нормативным сопротивлением – 2 кг/см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нтовые воды на глубине до 5 м, не были обнаружены, глубина промерзания грунта составляет – 1,2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729"/>
                </a:solidFill>
                <a:latin typeface="Arial"/>
              </a:rPr>
              <a:t>Окончательная очистка сточных вод</a:t>
            </a:r>
            <a:br>
              <a:rPr sz="3600"/>
            </a:b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ом предусматривается присоединения к поселковой канализации   п. Калитино, Волосовского района, Ленинградской обл, очистные сооружения которой рассчитаны на пропуск 350,0 м /сут. В состав сооружений входя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 Песколовка ТП 4-18-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Двухъярусные отстойники ТП 4-18-53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Биофильтры ТП 4-18-6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Хлораторная и смес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Вторичный отстойник ТП 4-18-3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Иловые площадки (две размером каждая 40 м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Песковая площадка 20 м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уск очищенных сточных вод предусматривается в насосную станцию и по трубопроводам подается до открытой кана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729"/>
                </a:solidFill>
                <a:latin typeface="Arial"/>
              </a:rPr>
              <a:t>Мероприятия по охране водной среды</a:t>
            </a:r>
            <a:br>
              <a:rPr sz="3600"/>
            </a:b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пос. Калитино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ектом предусматривается ряд мероприятий по охране вод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роприятия разработаны в двух направления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ры по снижению водопотребления и количества сбрасываемых сточных в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и меры предусматривают максимальное внедрение оборотных систем водоснабжения для многократного использова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астоящем проекте предусматривается применение следующих систем оборотного водоснаб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d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6729"/>
                </a:solidFill>
                <a:uFillTx/>
                <a:latin typeface="Arial"/>
              </a:rPr>
              <a:t>7. Вывод</a:t>
            </a:r>
            <a:br>
              <a:rPr sz="3600"/>
            </a:b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914040"/>
            <a:ext cx="7386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доснабжение по пос. Калитино соответствует не по всем технологическим требованиям. После оборотной системы происходит дополнительная биологическая очистка воды: по нефтепродуктам, по РН, по взвешенным веществ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хотя в пос. Калитино сооружены следующие очистные сооружения по очистки воды: песколовка, двухъярусные отстойники, биофильтры, хлораторная система смесителей, вторичный отстойник, иловые площадки, песковая площадка, но уровень жесткости воды по поселку остается высоким из-за наличия в воде растворенных солей кальция и магния, которые являются жесткими и при нагревании переходят в накипь, а также образуют осадок и разводы на поверхностях. Это может сказаться отрицательно на здоровье жителей поселка. Наличие нерастворенных механических частиц (песка, ржавчины, взвесей, коллоидных растворов) приводит к засорению и абразивному износу труб и сантехнических прибо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пос. Калитино в целях экономии воды в летний сезон года проводится мероприятие по отключению горячей воды, что вызывает большое неудобство у жителей посел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 сравнению с городской водой поселковая вода имеет наилучшие качества по вкусу, запаху и цветности, несмотря на заключения профессиональных работников по водоснабже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гласно стандартам поселковая вода достаточно безопасна и безвредна по химическому составу, но в целях большей безопасности, я советую использовать фильтры для очистки в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729"/>
                </a:solidFill>
                <a:latin typeface="Arial Black"/>
              </a:rPr>
              <a:t>  </a:t>
            </a:r>
            <a:r>
              <a:rPr b="0" lang="en-US" sz="3600" spc="-1" strike="noStrike">
                <a:solidFill>
                  <a:srgbClr val="666729"/>
                </a:solidFill>
                <a:latin typeface="Arial Black"/>
              </a:rPr>
              <a:t>Археологические</a:t>
            </a: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666729"/>
                </a:solidFill>
                <a:latin typeface="Arial Black"/>
              </a:rPr>
              <a:t>находки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7386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свидетельству литературных источников, на Руси системы водоснабжения возникли раньше, чем в Европе. Связано это было с необходимостью обеспечения питьевой водой городов и крепостей при ведении боевых действий, во время осад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денные на территории бывшего Советского Союза археологические раскопки обнаружили остатки водопроводов на Кавказе и в Средней Азии, в России и на Украине. Так, на территории Великого Новгорода были найдены остатки канализации с деревянными и гончарными трубам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XVII в. были устроены напорные водопроводы для кремлевских дворцов в Москве (рис. 1).  Вода из Москва-реки забиралась машиной на конской тяге и под напором подавалась в бак на башне, а оттуда по свинцовым трубам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инец - причина раковых заболева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поступала во дворец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ще в XII в. русским жителями было известно, что мутная речная вода при питье причиняет «болесть и пакость во чреве», что свидетельствует о понимании необходимости очистки и обеззараживания природных (загрязненных) вод.К периоду средневековья можно отнести строительство водопровода во Львове. В 1407 г. Петр Стехер при помощи гончарных труб провел родниковую воду в город. Несколько ранее, в 1404 г., строителем Гондушем была осуществлена постройка канала от каптированных родников в Старый Львов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Рис. 1. Профиль водопровода Кремля XVII в. (реконструкция) 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Кремль"/>
          <p:cNvPicPr/>
          <p:nvPr/>
        </p:nvPicPr>
        <p:blipFill>
          <a:blip r:embed="rId1"/>
          <a:stretch/>
        </p:blipFill>
        <p:spPr>
          <a:xfrm>
            <a:off x="304920" y="1600200"/>
            <a:ext cx="7315200" cy="4648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729"/>
                </a:solidFill>
                <a:latin typeface="Arial"/>
              </a:rPr>
              <a:t>Мытищинская водоподъемная станция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Мытищинская водоподъемная станция"/>
          <p:cNvPicPr/>
          <p:nvPr/>
        </p:nvPicPr>
        <p:blipFill>
          <a:blip r:embed="rId1"/>
          <a:stretch/>
        </p:blipFill>
        <p:spPr>
          <a:xfrm>
            <a:off x="380880" y="1447920"/>
            <a:ext cx="7315200" cy="4495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63520" y="304920"/>
            <a:ext cx="7386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началом строительства в Москве системы канализации в 1898 году и в связи с бурным ростом промышленности и населения городской Думой было принято решение по дальнейшему строительству Мытищинского водопровода. Был разработан принципиально новый, более совершенный подход к добыче воды и ее доставке потребителям. В 1898-1904 гг. была проведена полная реконструкция всей системы добычи воды, построено новое здание насосной станции, внедрена вакуумная система добычи воды и установлено новое технологическое оборудо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оды Великой Отечественной Войны Главная водопроводная станция, неоднократно подвергавшаяся бомбардировкам вражеской авиации, продолжала подавать воду в Москву и на Калининградский артиллерийский завод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Системы водоснабжения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ая современная система водоснабжения включает в себя следующие элемент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сос для подачи воды из скважин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идроаккумулятор для регулирования расхода вод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втоматика для управления системой водоснабж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муникации для подачи вод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зависимости от ряда факторов,в том числ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полагаемого расхода воды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а скважины или глубины залегания водоносного горизонта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автономных систем водоснабжения в настоящее время используются различные схемы подачи в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729"/>
                </a:solidFill>
                <a:latin typeface="Arial"/>
              </a:rPr>
              <a:t>Водонапорная башня.</a:t>
            </a:r>
            <a:br>
              <a:rPr sz="3600"/>
            </a:b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сих пор, во многих поселках и садовых товариществах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централизованного водоснабжения используются водонапорные башни. Невзирая на громоздкость конструкции, система водоснабжения при этом отличается простотой и высокой надежностью. При определенных условиях, эта система водоснабжения обладает рядом преимуществ, одним из которых является возможность установки в скважину недорогого высокопроизводительного отечественного насо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Крестовские водонапорные башни 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Водонапорные башни"/>
          <p:cNvPicPr/>
          <p:nvPr/>
        </p:nvPicPr>
        <p:blipFill>
          <a:blip r:embed="rId1"/>
          <a:stretch/>
        </p:blipFill>
        <p:spPr>
          <a:xfrm>
            <a:off x="304920" y="137160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ик</cp:lastModifiedBy>
  <dcterms:modified xsi:type="dcterms:W3CDTF">2008-04-15T12:14:3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