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49A-F120-4BFF-A46C-4863E613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79C-4112-4BF0-9072-E006BF2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444-0E5C-40F8-BB56-CFD7EA61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3A9-FE9D-4A36-834E-2DE7AB1B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105D3-7382-4F22-A80D-62EEF836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E89B9-691B-4419-84BC-45F02183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AA5B5-136C-4D45-AA89-777B1EB1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0C10B-C873-45C1-8B04-65958013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5C758-1A98-4417-ABD0-C15ED75C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8E8C-B6B6-49CD-9A85-51FAEEDC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6324C-8B58-44C1-B4BD-0F45EFA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1C4-93DA-4B9A-8D6A-EFCD52DB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217E3-C12D-4870-A81F-D3083A5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B3BD-AA10-4D73-9C17-9EEBC91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425A-E01E-411B-A88B-86614DEB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78DD9-B527-4FCC-8C7A-554DE5C1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D81EC-2EDA-42BC-9D4B-19AF2F1F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264-196C-41C0-A010-CC6997B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CE7-305E-437C-BF94-F7FD601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9E9-0D33-490A-93F0-D1132C84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D98-7DB4-4C05-93A7-94949535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AA4-C367-4658-BAC2-0011D65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C65-9EC1-4648-9CE7-5151DF0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229-0A72-466A-A3C9-D43BB4C1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3C26-7433-4045-AA40-3F8F55083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843-39EF-4AF1-9686-18F72F4E7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Ассоциации и творческое мыш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Вопросы </a:t>
            </a: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для закрепл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Чем отличается метод ассоциаций от морфологического анализ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Насколько эффективно в методе ассоциаций применение пословиц, отрывков из стихотворений, рассказов и т.д.? 3. В чем сущность ассоциативного мышл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§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  <a:ea typeface="Arial"/>
              </a:rPr>
              <a:t> 8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читать, готовить пересказ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  <a:ea typeface="Arial"/>
              </a:rPr>
              <a:t>. Подготовить ответы на вопросы к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§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  <a:ea typeface="Arial"/>
              </a:rPr>
              <a:t> 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048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Размин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Чему равна единица в квадрате? Чему равно два в квадрате? Чему равно четыре в квадрате? Чему равен угол в квадрат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Дом пылал факелом. Пожар не ликвидировать. Но человек вошел в горящий дом, и его никто не остановил.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Два человека вошли в комнату, увидели убийцу, его окровавленную жертву, обсудили увиденное и спокойно вышли.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Писатель закончил предложение и поставил точку. Роман «Нехоженая тропа» был завершен. Внезапно он схватил рукопись, и «Нехоженой тропы» не стало... Что случи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3276720"/>
            <a:ext cx="4343400" cy="283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Tahoma"/>
              </a:rPr>
              <a:t>Суть ассоциаци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становление связи между явлениями, понятиями, по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сьма отдален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руг от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419720" cy="4378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533520"/>
            <a:ext cx="8229600" cy="1447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Tahoma"/>
              </a:rPr>
              <a:t>Ассоциации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образы, возникающие в сознании человека в ответ на какое-то воздействие, например в ответ на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стейший прием генерирования ассоциаций — быстрый ответ на одно стимулирующее слово. Этот прием часто используется, когда один человек или группа людей ведут поиск ассоциаций на одно и то же слово в условиях ограничения времени (например, одной минуты). При этом выявляются так называемые </a:t>
            </a:r>
            <a:r>
              <a:rPr b="1" lang="en-US" sz="2800" spc="-1" strike="noStrike">
                <a:solidFill>
                  <a:srgbClr val="ff33cc"/>
                </a:solidFill>
                <a:latin typeface="Tahoma"/>
              </a:rPr>
              <a:t>первичные ассоциаци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число которых в ответ на одно слово колеблется обычно в пределах 10. Кроме первичных ассоциаций, высказываемых без замедления, человек может генерировать большое число дополнительных ассоциаций. Именно эти ассоциации позволяют обнаружить неожиданные, нетривиальные свойства рассматриваемого понятия или объ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жду двумя любыми понятиями можно установить </a:t>
            </a:r>
            <a:r>
              <a:rPr b="1" lang="en-US" sz="2800" spc="-1" strike="noStrike">
                <a:solidFill>
                  <a:srgbClr val="ff33cc"/>
                </a:solidFill>
                <a:latin typeface="Tahoma"/>
              </a:rPr>
              <a:t>ассоциативный перехо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 4—5 шагов. Так, например, переход от понятия «огонь» к понятию «заяц», которые весьма отдалены друг от друга, может иметь вид: «огонь — тепло — печка — дрова — лес — заяц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жду двумя понятиями может быть найдено несколько ассоциативных переходов разной длительности: от 5 до 50 шагов. Чем более развито у человека воображение, тем более дальний ассоциативный переход он может най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угим эффективным приемом развития ассоциативного мышления является установление ассоциативных переходов между двумя совершенно независимыми или противоположными утверждениями (высказываниями). Например, нужно найти ассоциативный переход между фразами: «Когда гремит гром...» и «У вас отрывается ручка от портфеля». На первый взгляд связи между ними нет. Но раз мы взяли их в качестве примера, попробуем найти переход. Один из возможных переходов может быть такой: «Когда гремит гром, все понимают, что скоро пойдет дождь — пойдет дождь, нужно быстрее добраться домой — быстрее добраться можно на автобусе — все бегут на автобус, и вы тоже — у входа в автобус создается давка — в давке у вас отрывается ручка от портфеля». Как видим, получился короткий переход из 6 шагов. Для развития ассоциативного мышления нужно стараться найти самый дальний путь с наибольшим числом ша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Терми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Ассоциаци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генерирование ассоциац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ервичные ассоциаци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дополнительные ассоциац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ассоциативный переход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шаги ассоциативного перех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96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ы три слова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кирпич, стакан, шляпа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пишите несколько (не менее трех) предложений, связанных между собой по смыслу, желательно в виде рассказа. В каждом предложении необходимо использовать все три сл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Вопросы опро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каких случаях целесообразно применять двумерную матриц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ем преимущества многомерных матриц по сравнению с двумер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ем сущность морфологической матриц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 помощью каких матриц можно решать управленческие проблем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2-07T03:43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