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A11F-7E36-4BBF-B9A9-5814248A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7A9-EDAE-417F-B9F9-68590D70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994B-8DDF-42C8-ADDF-8C95CA43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9CF0-D184-4E02-92DC-A706FC35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B9AC-4E65-48C2-9345-8C843B19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9C9E-6E79-43D0-B7AF-C90C22DE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1DFA-01EE-47E7-9585-6CC03590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C304-D209-4FEA-A928-C50D8789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3583-8FFE-4DD9-8830-DB733FC2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0A3A-CA1D-412B-83C7-A8B03F49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8200-638F-4CB7-8186-3F1B8459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5E6C-AAFA-462A-8139-5B88117A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D4A4-69F6-4767-80A3-F27F0001E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360" y="2130120"/>
            <a:ext cx="5105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be0e3"/>
                </a:solidFill>
                <a:latin typeface="Arial"/>
              </a:rPr>
              <a:t>Синекти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Символическая аналогия.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Требуется в парадоксальной, метафорической форме определить объект (понятие), высветив его суть. Определение должно состоять из двух слов (обычно это прилагательное и существительное), где одно слово противоречит по содержанию другом, т.е. связь между словами должна содержать в себе нечто неожиданное, удивительное Так, для предотвращения износа заслонки от пульпы в процессе поиска образной характеристики защиты процесса были предложены такие метафоры: живая броня, невидимая кольчуга, отрастающий панцирь. Последняя аналогия подсказала техническое решение: подавать к заслонке охлаждающий агент, чтобы защитить ее слоем нарастающего ль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04920" y="304920"/>
          <a:ext cx="8686800" cy="6145200"/>
        </p:xfrm>
        <a:graphic>
          <a:graphicData uri="http://schemas.openxmlformats.org/drawingml/2006/table">
            <a:tbl>
              <a:tblPr/>
              <a:tblGrid>
                <a:gridCol w="2973240"/>
                <a:gridCol w="57135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6f6b1"/>
                          </a:solidFill>
                          <a:latin typeface="Arial"/>
                        </a:rPr>
                        <a:t>Определяемое поня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585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6f6b1"/>
                          </a:solidFill>
                          <a:latin typeface="Arial"/>
                        </a:rPr>
                        <a:t>Опреде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585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Сигар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585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Твердый ды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585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Вентилят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585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Жесткий ветер, настольный сквозняк, застывший вихр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585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Раств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585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Взвешенная неразберих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585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Кни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585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Молчаливый рассказчик, диалог наеди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585c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Пла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585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Видимая тепл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585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Облак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585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Легкая тяжесть, воздушная вода, непрозрачная пу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585c"/>
                    </a:solidFill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Пр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585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Принудительная целос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585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Шлифовальный кру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6585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Точная шероховат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6585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Фантастическая аналогия. 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Нужно представить изменяемый объект таким, каким мы хотели бы его видеть в идеальном случае, без учета существующих ограничений и возможностей (наличия источников энергии, необходимых условий, физических законов и т.п.). После формулировки фантастической аналогии необходимо выяснить, что мешает перенести найденное решение в реальные условия и попробовать обойти эту помех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be0e3"/>
                </a:solidFill>
                <a:latin typeface="Arial"/>
              </a:rPr>
              <a:t>Примеры. 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Немецкий астроном И. Кеплер, открывший законы движения планет, уподоблял притяжение небесных тел взаимной любви. Солнце, планеты и звезды он сравнивал с различными обликами Бога. Эти сопоставления привели Кеплера к идее ввести понятие силы (гравитации) в астроном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XVII 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в. движение крови в организме сравнивали с морскими приливами и отливами. Английский врач и физиолог У. Гарвей ввел новую аналогию — насос — и пришел к фундаментальной идее непрерывной циркуляции кр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be0e3"/>
                </a:solidFill>
                <a:latin typeface="Arial"/>
              </a:rPr>
              <a:t>Ход решения синектической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1.  Синекторы уточняют и формулируют проблему как она дана (ПКД). Особенностью этого этапа является то, что никто, кроме руководителя, не посвящается в конкретные условия задачи. Считается, что преждевременное конкретное формулирование задачи затрудняет абстрагирование, не дает уйти от привычного хода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2.   Синекторы формулируют проблему, как ее понимают (ПКП). Рассматривают возможности превратить незнакомую и непривычную проблему в ряд более обычных задач. По существу, на этом этапе проблема дробится на под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3. Ведется генерация (выдвижение и накопление) идей. Начинаются экскурсы в самые разные области техники, природы, психологии для выявления того, как аналогичные проблемы решаются в этих далеких от данной задачи областях. При этом используются все виды аналог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4.  Выявленные на этапе генерации идеи переводятся в ПКД и ПКП. На этом этапе осуществляются критическая оценка идей, консультации со специалистами, эксперимен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1.  </a:t>
            </a:r>
            <a:r>
              <a:rPr b="0" i="1" lang="en-US" sz="2800" spc="-1" strike="noStrike">
                <a:solidFill>
                  <a:srgbClr val="bbe0e3"/>
                </a:solidFill>
                <a:latin typeface="Arial"/>
              </a:rPr>
              <a:t>Конкурс «Генераторы иде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be0e3"/>
                </a:solidFill>
                <a:latin typeface="Arial"/>
              </a:rPr>
              <a:t>•  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Класс разделяется на группы по 4—5 человек. Каждая группа в течение 5 минут должна придумать и записать наибольшее число символических аналогий (метафор) для одного из предметов (доска, часы, книга, карта, ок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•  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Каждая группа в течение 5—7 минут должна найти и записать наибольшее число примеров использования в технике ана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2.  </a:t>
            </a:r>
            <a:r>
              <a:rPr b="0" i="1" lang="en-US" sz="2400" spc="-1" strike="noStrike">
                <a:solidFill>
                  <a:srgbClr val="bbe0e3"/>
                </a:solidFill>
                <a:latin typeface="Arial"/>
              </a:rPr>
              <a:t>Задача «Баллас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В условиях Сибири железнодорожная насыпь укладывается на грунт с вечной мерзлотой, который оттаивает летом сверху на 40—50 см. Во время осенних дождей насыпь полностью пропитывается влагой. В европейской части страны, где нет вечной мерзлоты, большая часть влаги из насыпи уходит в грунт, в насыпи остается лишь незначительная часть влаги. В Сибири же влаге уходить некуда, и она остается в насыпи. Зимой, с наступлением морозов, влага замерзает, расширяется в объеме и вспучивает железнодорожное полотно. Нарушается нормальное функционирование железной дороги. Как бы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Ответ найдите с помощью приема </a:t>
            </a:r>
            <a:r>
              <a:rPr b="0" i="1" lang="en-US" sz="2400" spc="-1" strike="noStrike">
                <a:solidFill>
                  <a:srgbClr val="bbe0e3"/>
                </a:solidFill>
                <a:latin typeface="Arial"/>
              </a:rPr>
              <a:t>«личная аналогия»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(представьте себя грунтом насып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3. Дано несколько предметов: карандаш, утюг, стул, электрическая плитка, кафель. Составьте список функций, которые эти предметы выполняют. Против каждой функции в составленном списке впишите предметы (аналоги), выполняющие такие же функ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80880" y="685800"/>
          <a:ext cx="8534520" cy="5621400"/>
        </p:xfrm>
        <a:graphic>
          <a:graphicData uri="http://schemas.openxmlformats.org/drawingml/2006/table">
            <a:tbl>
              <a:tblPr/>
              <a:tblGrid>
                <a:gridCol w="1828800"/>
                <a:gridCol w="3962520"/>
                <a:gridCol w="2743200"/>
              </a:tblGrid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cf2bd"/>
                          </a:solidFill>
                          <a:latin typeface="Times New Roman"/>
                        </a:rPr>
                        <a:t>Предме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cf2bd"/>
                          </a:solidFill>
                          <a:latin typeface="Times New Roman"/>
                        </a:rPr>
                        <a:t>Функц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cf2bd"/>
                          </a:solidFill>
                          <a:latin typeface="Times New Roman"/>
                        </a:rPr>
                        <a:t>Анало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bbe0e3"/>
                          </a:solidFill>
                          <a:latin typeface="Times New Roman"/>
                        </a:rPr>
                        <a:t>Волч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585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bbe0e3"/>
                          </a:solidFill>
                          <a:latin typeface="Times New Roman"/>
                        </a:rPr>
                        <a:t>Вращ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585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bbe0e3"/>
                          </a:solidFill>
                          <a:latin typeface="Times New Roman"/>
                        </a:rPr>
                        <a:t>Гироско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585c"/>
                    </a:solidFill>
                  </a:tcPr>
                </a:tc>
              </a:tr>
              <a:tr h="21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bbe0e3"/>
                          </a:solidFill>
                          <a:latin typeface="Times New Roman"/>
                        </a:rPr>
                        <a:t>Бамбу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585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bbe0e3"/>
                          </a:solidFill>
                          <a:latin typeface="Times New Roman"/>
                        </a:rPr>
                        <a:t>Обеспечивать упругость и прочность за счет пористого стро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585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bbe0e3"/>
                          </a:solidFill>
                          <a:latin typeface="Times New Roman"/>
                        </a:rPr>
                        <a:t>Композитные материал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585c"/>
                    </a:solidFill>
                  </a:tcPr>
                </a:tc>
              </a:tr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bbe0e3"/>
                          </a:solidFill>
                          <a:latin typeface="Times New Roman"/>
                        </a:rPr>
                        <a:t>Пару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6585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bbe0e3"/>
                          </a:solidFill>
                          <a:latin typeface="Times New Roman"/>
                        </a:rPr>
                        <a:t>Перемещать предметы за счет внешнего воздействия сред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6585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bbe0e3"/>
                          </a:solidFill>
                          <a:latin typeface="Times New Roman"/>
                        </a:rPr>
                        <a:t>Турбинная лопат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6585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1. Как можно «по волшебству» убрать орудие преступления — пулю в детективном рома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2. Для путешествия по темной стороне Луны нужны лампы освещения. Какие фантастические конструкции можно предло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В середине 50-х гг. Уильямом Гордоном (США) был предложен новый метод поиска творческих решений — </a:t>
            </a:r>
            <a:r>
              <a:rPr b="1" lang="ru-RU" sz="3200" spc="-1" strike="noStrike">
                <a:solidFill>
                  <a:srgbClr val="26f6b1"/>
                </a:solidFill>
                <a:latin typeface="Arial"/>
              </a:rPr>
              <a:t>синектика.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В переводе с греческого это слово означает «совмещение разнородных элемент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В основу синектики положен мозговой штурм. Но для синектики формируют постоянные группы людей (оптимальный состав - 5—7 человек) различных специальностей с обязательным предварительным обучением. Синектор после подготовки вполне может носить звание </a:t>
            </a:r>
            <a:r>
              <a:rPr b="1" lang="ru-RU" sz="2800" spc="-1" strike="noStrike">
                <a:solidFill>
                  <a:srgbClr val="26f6b1"/>
                </a:solidFill>
                <a:latin typeface="Arial"/>
              </a:rPr>
              <a:t>«профессиональный генератор новых иде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Перечислим некоторые </a:t>
            </a:r>
            <a:r>
              <a:rPr b="1" i="1" lang="ru-RU" sz="2800" spc="-1" strike="noStrike">
                <a:solidFill>
                  <a:srgbClr val="26f6b1"/>
                </a:solidFill>
                <a:latin typeface="Arial"/>
              </a:rPr>
              <a:t>качества синектора:</a:t>
            </a:r>
            <a:r>
              <a:rPr b="0" i="1" lang="ru-RU" sz="2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умение абстрагироваться, мысленно отделяться от предмета обсужд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богатая фантаз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способность переключаться, отходить от навязчивых ид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привычка находить необычное в обычном и в необычном обычно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ассоциативное мышл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терпимое отношение к идеям, высказанным товарища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эрудиция, широкий кругоз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Синекторы в своей работе используют аналогии. </a:t>
            </a:r>
            <a:r>
              <a:rPr b="1" i="1" lang="ru-RU" sz="3200" spc="-1" strike="noStrike">
                <a:solidFill>
                  <a:srgbClr val="26f6b1"/>
                </a:solidFill>
                <a:latin typeface="Arial"/>
              </a:rPr>
              <a:t>Аналогия</a:t>
            </a:r>
            <a:r>
              <a:rPr b="1" i="1" lang="ru-RU" sz="2800" spc="-1" strike="noStrike">
                <a:solidFill>
                  <a:srgbClr val="bbe0e3"/>
                </a:solidFill>
                <a:latin typeface="Arial"/>
              </a:rPr>
              <a:t> — </a:t>
            </a:r>
            <a:r>
              <a:rPr b="1" lang="ru-RU" sz="2800" spc="-1" strike="noStrike">
                <a:solidFill>
                  <a:srgbClr val="26f6b1"/>
                </a:solidFill>
                <a:latin typeface="Arial"/>
              </a:rPr>
              <a:t>сходство, соответствие двух предметов (явлений) в каких-то свойствах или отношениях</a:t>
            </a:r>
            <a:r>
              <a:rPr b="1" lang="ru-RU" sz="2800" spc="-1" strike="noStrike">
                <a:solidFill>
                  <a:srgbClr val="bbe0e3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В математике по аналогии доказывается, например, подобие треугольников, углов, в физике строение атома представлено по аналогии со строением Солнечной системы, в технике многие объекты построены по аналогии с биологическими объектами. Умелое использование аналогий позволяет охватить громадное количество объектов, сравнить их с исследуемыми, найти нечто сходное и использовать в решении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bbe0e3"/>
                </a:solidFill>
                <a:latin typeface="Arial"/>
              </a:rPr>
              <a:t>Суть метода </a:t>
            </a:r>
            <a:r>
              <a:rPr b="1" lang="ru-RU" sz="2800" spc="-1" strike="noStrike">
                <a:solidFill>
                  <a:srgbClr val="bbe0e3"/>
                </a:solidFill>
                <a:latin typeface="Arial"/>
              </a:rPr>
              <a:t>— </a:t>
            </a:r>
            <a:r>
              <a:rPr b="1" lang="ru-RU" sz="2800" spc="-1" strike="noStrike">
                <a:solidFill>
                  <a:srgbClr val="26f6b1"/>
                </a:solidFill>
                <a:latin typeface="Arial"/>
              </a:rPr>
              <a:t>нахождение близкого по сущности решения путем последовательного нахождения аналогов (подобий) в различных областях знаний или исследование действия (поведения) объекта в измененных условиях, вплоть до фантастическ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Таким образом, </a:t>
            </a:r>
            <a:r>
              <a:rPr b="0" i="1" lang="ru-RU" sz="2800" spc="-1" strike="noStrike">
                <a:solidFill>
                  <a:srgbClr val="bbe0e3"/>
                </a:solidFill>
                <a:latin typeface="Arial"/>
              </a:rPr>
              <a:t>синектика 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— это мозговой штурм, проводимый с использованием аналогий. Типы аналогий и действия синек-тора представим схематически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be0e3"/>
                </a:solidFill>
                <a:latin typeface="Arial"/>
              </a:rPr>
              <a:t>Типы аналогий, используемые синектор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f6b1"/>
                </a:solidFill>
                <a:latin typeface="Arial"/>
              </a:rPr>
              <a:t>Прямая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Выяснить, как решаются задачи, похожие на дан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f6b1"/>
                </a:solidFill>
                <a:latin typeface="Arial"/>
              </a:rPr>
              <a:t>Личная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Отождествить себя с техническим объект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f6b1"/>
                </a:solidFill>
                <a:latin typeface="Arial"/>
              </a:rPr>
              <a:t>Символическая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  Выразить буквально в двух словах суть зада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f6b1"/>
                </a:solidFill>
                <a:latin typeface="Arial"/>
              </a:rPr>
              <a:t>Фантастическая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  Ввести какие-нибудь фантастические средства (или персонажи), выполняющие то", что требуется по                                                                    условиям задач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be0e3"/>
                </a:solidFill>
                <a:latin typeface="Arial"/>
              </a:rPr>
              <a:t>Прямая аналогия. 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Рассматриваемый объект (процесс) сравнивается с аналогичным из другой области техники или из живой природы для нахождения образца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Например, дана задача: по трубопроводу движется смесь частиц железной руды с водой — пульпа. Заслонка; регулирующая этот поток, очень быстро стирается, и для ее замены приходится останавливать процесс. Как сделать заслонку долговременн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Синектическая группа в своих поисках рассмотрит, как защищаются от воздействия внешней среды стебли растений, в частности стволы деревьев; как устроены пищеводы животных, питающихся «колючей» пищей, и т.д. Что-то похожее можно применить и для предохранения заслонки от трения и стир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be0e3"/>
                </a:solidFill>
                <a:latin typeface="Arial"/>
              </a:rPr>
              <a:t>Личная аналогия 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(эмпатия). Синектор представляет себя техническим объектом (например, самолетом, луноходом) и пыт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осознать, как бы он действовал в данных обстоятельствах. Так актеры «погружаются» в образ своего героя, живут его чувствами, мыслями, ощущ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Представив себя заслонкой, мы сначала стали бы уворачиваться от ударов, а потом взяли бы в руки щит, чтобы отталкивать частицы руды. В этом образе и заключен ключ к решению. В реальной практике заслонку намагнитили, и она, как броней, покрылась частицами руды. Этот слой постоянно стирался от трения, но вновь заменялся новыми частицами, улавливаемыми магнитным полем засло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1-23T19:12:5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