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824-2DFC-443C-8237-790260C9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A6B-1998-42C6-B857-656DD22E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04E-A640-449B-9415-F82E6B54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C86-E960-4D85-A237-AAA6E8BE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2C2-EEF9-4302-BF1D-D5E279C7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9CB-FB87-41CD-95BE-FFC37D89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264-B8B5-41EB-ADF0-A4B61EA6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F82-D3B0-49A9-A5AE-00C32704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832-38A4-417F-BDF2-882DA0C2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612-ED75-407F-A051-4563FB75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A08-6717-4EAC-B7C8-F266D62C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21A-7886-42F5-8E77-2B8AF218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B115-B9F9-4125-886B-F341289B2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3992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4a7"/>
                </a:solidFill>
                <a:latin typeface="Arial"/>
              </a:rPr>
              <a:t>Технология профессионального самоопределения и карьер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4a7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4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a7"/>
                </a:solidFill>
                <a:latin typeface="Arial"/>
              </a:rPr>
              <a:t>Почему сложно дать абсолютно правильное определение понятию «профессия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4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a7"/>
                </a:solidFill>
                <a:latin typeface="Arial"/>
              </a:rPr>
              <a:t>Чем различаются между собой понятия «профессия», «специальность», «должность» и «квалификация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4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a7"/>
                </a:solidFill>
                <a:latin typeface="Arial"/>
              </a:rPr>
              <a:t>Что изменилось в профессиональной деятельности человека за последние 250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4a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4a7"/>
                </a:solidFill>
                <a:latin typeface="Arial"/>
              </a:rPr>
              <a:t>Профессию оператора ЭВМ сравнивают с ныне не существующей профессией писаря. Согласны ли вы с тем, что профессия оператора ЭВМ исчезающая, так как компьютерной грамотностью овладевает всё большее количество люд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4a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4a7"/>
                </a:solidFill>
                <a:latin typeface="Arial"/>
              </a:rPr>
              <a:t>Почему естественно-научное и техническое образование оказалось востребованным в середине ХХ 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4a7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4a7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a7"/>
                </a:solidFill>
                <a:latin typeface="Arial"/>
              </a:rPr>
              <a:t>Назовите пять человек, достигших самого большого профессионального успеха в минувшем веке. Попросите сделать то же своих одноклассников. Сравните результаты работы. Как Вы можете аргументировать Ваш выб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4a7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a7"/>
                </a:solidFill>
                <a:latin typeface="Arial"/>
              </a:rPr>
              <a:t>Какой, на Ваш взгляд, окажется десятка самых нужных обществу профессий через 10-15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a7"/>
                </a:solidFill>
                <a:latin typeface="Arial"/>
              </a:rPr>
              <a:t>8.   Какими качествами должен обладать человек, чтобы достичь профессионального успеха в 21 ве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4a7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a7"/>
                </a:solidFill>
                <a:latin typeface="Arial"/>
              </a:rPr>
              <a:t>9. Вспомните несколько художественных фильмов или литературных произведений, в которых определённую роль для развития сюжеты сыграла профессиональная деятельность героя. Как изменились эти профессии за последние десятилетия или в последние г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a7"/>
                </a:solidFill>
                <a:latin typeface="Arial"/>
              </a:rPr>
              <a:t>10. Ради чего тратят своё время и силы Ваши родные и знакомые выполняя профессиональную деятель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4a7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4a7"/>
                </a:solidFill>
                <a:latin typeface="Arial"/>
              </a:rPr>
              <a:t>Профессия и челов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6. Деятельность, дающая человеку определённый социальный статус(дело человека – его визитная карточ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1295280"/>
            <a:ext cx="541008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4a7"/>
                </a:solidFill>
                <a:latin typeface="Arial"/>
              </a:rPr>
              <a:t>Что такое професс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051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c4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Область приложения духовных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физических сил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15920" y="1981080"/>
            <a:ext cx="9430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2. Ограниченный (вследствие раз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труда) вид трудов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9810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3. Работа, которая направлена на пользу общества, а не только удовлетворение своих потребн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19880" y="1981080"/>
            <a:ext cx="91634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4. Занятие, которое, предполаг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специальную  подготовку и периодическ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переподготов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98108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5. Дело, выполняемое за определённое вознаграждение  (не только материаль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но и морально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4a7"/>
                </a:solidFill>
                <a:latin typeface="Arial"/>
              </a:rPr>
              <a:t>Какие слова стоят рядом со словом «профессия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ffc4a7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специа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4a7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долж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4a7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квалифик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4a7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карь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4a7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социальная ро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общественная ми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4a7"/>
                </a:solidFill>
                <a:latin typeface="Arial"/>
              </a:rPr>
              <a:t>Профессия и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Профессии рождались и развивались на разных этапах цивил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По-разному выглядели и само понятие «профессия», и профессиональная жизнь человека, и отношение человека к проблеме ориентировки в океане професс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На </a:t>
            </a:r>
            <a:r>
              <a:rPr b="1" i="1" lang="en-US" sz="3600" spc="-1" strike="noStrike">
                <a:solidFill>
                  <a:srgbClr val="ffc4a7"/>
                </a:solidFill>
                <a:latin typeface="Arial"/>
              </a:rPr>
              <a:t>доиндустриальном этапе</a:t>
            </a: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 развития цивилизации мировоззрение человека и его трудовая деятельность зависели от сословной принадлежности и семейных тради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На </a:t>
            </a:r>
            <a:r>
              <a:rPr b="1" i="1" lang="en-US" sz="3600" spc="-1" strike="noStrike">
                <a:solidFill>
                  <a:srgbClr val="ffc4a7"/>
                </a:solidFill>
                <a:latin typeface="Arial"/>
              </a:rPr>
              <a:t>индустриальном этапе</a:t>
            </a: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 развития цивилизации стала происходить массовая миграция людей в г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На </a:t>
            </a:r>
            <a:r>
              <a:rPr b="1" i="1" lang="en-US" sz="3600" spc="-1" strike="noStrike">
                <a:solidFill>
                  <a:srgbClr val="ffc4a7"/>
                </a:solidFill>
                <a:latin typeface="Arial"/>
              </a:rPr>
              <a:t>постиндустриальном этапе</a:t>
            </a:r>
            <a:r>
              <a:rPr b="0" lang="en-US" sz="3200" spc="-1" strike="noStrike">
                <a:solidFill>
                  <a:srgbClr val="ffc4a7"/>
                </a:solidFill>
                <a:latin typeface="Arial"/>
              </a:rPr>
              <a:t> развития человечества самым важным и массовым товаром становится информ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4a7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4a7"/>
                </a:solidFill>
                <a:latin typeface="Arial"/>
              </a:rPr>
              <a:t>Статистические данные по С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523880"/>
          <a:ext cx="853416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85341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4a7"/>
                </a:solidFill>
                <a:latin typeface="Arial"/>
              </a:rPr>
              <a:t>Потребность и причины смены профе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42 % выпускников профессиональных учебных заведений меняют профессию в течении первых двух лет после окончания учебы в н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a7"/>
                </a:solidFill>
                <a:latin typeface="Arial"/>
              </a:rPr>
              <a:t>80 % населения работают не в соответствии со специальностью, указанной в дипломе о профессиональном образ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4a7"/>
                </a:solidFill>
                <a:latin typeface="Arial"/>
              </a:rPr>
              <a:t>Новые требования к современному специалис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4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4a7"/>
                </a:solidFill>
                <a:latin typeface="Arial"/>
              </a:rPr>
              <a:t>гуманитарная компетентность</a:t>
            </a:r>
            <a:r>
              <a:rPr b="1" lang="ru-RU" sz="2800" spc="-1" strike="noStrike">
                <a:solidFill>
                  <a:srgbClr val="ffc4a7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4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4a7"/>
                </a:solidFill>
                <a:latin typeface="Arial"/>
              </a:rPr>
              <a:t>борьба с</a:t>
            </a:r>
            <a:r>
              <a:rPr b="1" lang="ru-RU" sz="2800" spc="-1" strike="noStrike">
                <a:solidFill>
                  <a:srgbClr val="ffc4a7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c4a7"/>
                </a:solidFill>
                <a:latin typeface="Arial"/>
              </a:rPr>
              <a:t>технократизмом</a:t>
            </a:r>
            <a:r>
              <a:rPr b="1" lang="ru-RU" sz="2800" spc="-1" strike="noStrike">
                <a:solidFill>
                  <a:srgbClr val="ffc4a7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4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4a7"/>
                </a:solidFill>
                <a:latin typeface="Arial"/>
              </a:rPr>
              <a:t>нравственный аспект отношения к работе</a:t>
            </a:r>
            <a:r>
              <a:rPr b="1" lang="ru-RU" sz="2800" spc="-1" strike="noStrike">
                <a:solidFill>
                  <a:srgbClr val="ffc4a7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4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4a7"/>
                </a:solidFill>
                <a:latin typeface="Arial"/>
              </a:rPr>
              <a:t>неформальное общение в профессиональной деятельности</a:t>
            </a:r>
            <a:r>
              <a:rPr b="1" lang="ru-RU" sz="2800" spc="-1" strike="noStrike">
                <a:solidFill>
                  <a:srgbClr val="ffc4a7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4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4a7"/>
                </a:solidFill>
                <a:latin typeface="Arial"/>
              </a:rPr>
              <a:t>результат труда с эстетической точки зрения</a:t>
            </a:r>
            <a:r>
              <a:rPr b="1" lang="ru-RU" sz="2800" spc="-1" strike="noStrike">
                <a:solidFill>
                  <a:srgbClr val="ffc4a7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4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4a7"/>
                </a:solidFill>
                <a:latin typeface="Arial"/>
              </a:rPr>
              <a:t>экономическая компетентность</a:t>
            </a:r>
            <a:r>
              <a:rPr b="1" lang="ru-RU" sz="2800" spc="-1" strike="noStrike">
                <a:solidFill>
                  <a:srgbClr val="ffc4a7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4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4a7"/>
                </a:solidFill>
                <a:latin typeface="Arial"/>
              </a:rPr>
              <a:t>экологическая грамотность</a:t>
            </a:r>
            <a:r>
              <a:rPr b="1" lang="ru-RU" sz="2800" spc="-1" strike="noStrike">
                <a:solidFill>
                  <a:srgbClr val="ffc4a7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4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4a7"/>
                </a:solidFill>
                <a:latin typeface="Arial"/>
              </a:rPr>
              <a:t>правовая культура</a:t>
            </a:r>
            <a:r>
              <a:rPr b="1" lang="ru-RU" sz="2800" spc="-1" strike="noStrike">
                <a:solidFill>
                  <a:srgbClr val="ffc4a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12T17:40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