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BFC-CA09-4A4A-924C-8AD42401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4F2-0F4E-4243-B971-E704BB39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2C7-810D-4248-A656-9E993FA6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F15-2F49-4AC6-8BE2-587233F1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A6D-824E-4465-9102-09236899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731-F59A-4216-BF67-6F0FE5C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FF8-69B4-46AA-A3D8-9128C19B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34D-8FB5-486D-9479-E5DC7BE9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5AF-770C-4A0D-87D2-0287F89F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36F-4847-4A6F-8992-2C2E936A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7A8-CCA6-4B4E-8EE1-E1F1833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EEB-3B26-41B2-B7DE-E16D6CB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9265-A2E7-4867-B319-9D3CB113B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209680"/>
            <a:ext cx="7924680" cy="1470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Морфологический </a:t>
            </a:r>
            <a:br>
              <a:rPr sz="6000"/>
            </a:b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анали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769680" cy="1487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769680" cy="1487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769680" cy="148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7696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Морфологическая мат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143000"/>
          <a:ext cx="8610480" cy="5527800"/>
        </p:xfrm>
        <a:graphic>
          <a:graphicData uri="http://schemas.openxmlformats.org/drawingml/2006/table">
            <a:tbl>
              <a:tblPr/>
              <a:tblGrid>
                <a:gridCol w="4343400"/>
                <a:gridCol w="1828800"/>
                <a:gridCol w="838080"/>
                <a:gridCol w="838440"/>
                <a:gridCol w="7617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Наиболее значимые пара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Значимость параметра,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Варианты професс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1. Зарпл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2. Престиж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3. Возможность заним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самостоятельной творческой деятельно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4. Режим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5. Возможность смены мест, путеше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3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f5"/>
                    </a:solidFill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В пределах выбранных шкал экспертно оцениваем все три профессии. В результате сложения суммы экспертных оценок по всем параметрам определяем, что наиболее предпочтительной является профессия инженера-авиаконстру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Применение.</a:t>
            </a:r>
            <a:r>
              <a:rPr b="1" lang="en-US" sz="2800" spc="-1" strike="noStrike">
                <a:solidFill>
                  <a:srgbClr val="00007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Морфологический анализ можно использовать для составления списка всех возможных вариантов решения задачи, для сравнения или выбора одного из многих возможных решений технических, организационных и прочи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Недостаток метода</a:t>
            </a:r>
            <a:r>
              <a:rPr b="1" lang="en-US" sz="2800" spc="-1" strike="noStrike">
                <a:solidFill>
                  <a:srgbClr val="00007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— обилие вариантов, из которых трудно выбрать наилучший. Кроме этого, морфологический анализ не позволяет определить, все ли возможные варианты рассмотр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0"/>
                </a:solidFill>
                <a:latin typeface="Arial"/>
              </a:rPr>
              <a:t>Морфологический (типологический) анализ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0"/>
                </a:solidFill>
                <a:latin typeface="Arial"/>
              </a:rPr>
              <a:t>морфологические (типовые) признаки (параметры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0"/>
                </a:solidFill>
                <a:latin typeface="Arial"/>
              </a:rPr>
              <a:t>морфологический ящик (матрица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0"/>
                </a:solidFill>
                <a:latin typeface="Arial"/>
              </a:rPr>
              <a:t>экспертные оц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Вопросы опрос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70"/>
                </a:solidFill>
                <a:latin typeface="Arial"/>
              </a:rPr>
              <a:t>1. Что такое аналогия и как ее применяют при решении задач методом синект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0"/>
                </a:solidFill>
                <a:latin typeface="Arial"/>
              </a:rPr>
              <a:t>2. В чем отличие метода синектики от 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0"/>
                </a:solidFill>
                <a:latin typeface="Arial"/>
              </a:rPr>
              <a:t>3. Дайте определение синектики как метода поиска решений творчески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0"/>
                </a:solidFill>
                <a:latin typeface="Arial"/>
              </a:rPr>
              <a:t>4. Охарактеризуйте типы аналогий, используемые синект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0"/>
                </a:solidFill>
                <a:latin typeface="Arial"/>
              </a:rPr>
              <a:t>5.   Раскройте технологию и этапы решения задачи методом синек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Практическая раб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С помощью морфологического анализа составьте таблицу значимых параметров для выбора подходящей профессии из 3—4 наиболее привлека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1. В чем суть метода морфологического анализа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2.  Каковы основные достоинства данного мет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3. Что такое морфологический ящ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4.  Перечислите этапы решения задачи методом морфологического анали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5.  Раскройте недостатки метода морфологического анали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7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70"/>
                </a:solidFill>
                <a:latin typeface="Arial"/>
                <a:ea typeface="Arial"/>
              </a:rPr>
              <a:t> 6</a:t>
            </a:r>
            <a:r>
              <a:rPr b="0" lang="ru-RU" sz="3200" spc="-1" strike="noStrike">
                <a:solidFill>
                  <a:srgbClr val="000070"/>
                </a:solidFill>
                <a:latin typeface="Arial"/>
              </a:rPr>
              <a:t> читать, готовить пересказ</a:t>
            </a:r>
            <a:r>
              <a:rPr b="0" lang="ru-RU" sz="3200" spc="-1" strike="noStrike">
                <a:solidFill>
                  <a:srgbClr val="000070"/>
                </a:solidFill>
                <a:latin typeface="Arial"/>
                <a:ea typeface="Arial"/>
              </a:rPr>
              <a:t>. Подготовить ответы на вопросы к </a:t>
            </a:r>
            <a:r>
              <a:rPr b="0" lang="en-US" sz="3200" spc="-1" strike="noStrike">
                <a:solidFill>
                  <a:srgbClr val="00007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70"/>
                </a:solidFill>
                <a:latin typeface="Arial"/>
                <a:ea typeface="Arial"/>
              </a:rPr>
              <a:t>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1. Какие часы показывают время абсолютно точно два раза в су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2. Лесорубы пилят бревна на метровые куски. Отпиливание одного такого куска занимает одну минуту. За сколько минут они распилят бревно длиной 5 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3.  В юношеской библиотеке полмиллиона книг и 50 тыс. читателей. Для библиотеки построено новое здание. Как переехать с наименьшими затратам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8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Морфологический ана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0"/>
                </a:solidFill>
                <a:latin typeface="Arial"/>
              </a:rPr>
              <a:t>Многим изобретателям приходила на ум заманчивая идея: а нельзя ли получить для каждой задачи список всех возможных вариантов решения? Ведь имея такой перечень, не рискуешь что-либо упус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0"/>
                </a:solidFill>
                <a:latin typeface="Arial"/>
              </a:rPr>
              <a:t>В 1942 г. швейцарский астроном Ф. Цвикки предложил метод поиска решений технических задач, названный им </a:t>
            </a:r>
            <a:r>
              <a:rPr b="1" i="1" lang="ru-RU" sz="2800" spc="-1" strike="noStrike">
                <a:solidFill>
                  <a:srgbClr val="cc0066"/>
                </a:solidFill>
                <a:latin typeface="Arial"/>
              </a:rPr>
              <a:t>морфологическим (типологическим) анализом </a:t>
            </a:r>
            <a:r>
              <a:rPr b="0" i="1" lang="ru-RU" sz="2800" spc="-1" strike="noStrike">
                <a:solidFill>
                  <a:srgbClr val="cc0066"/>
                </a:solidFill>
                <a:latin typeface="Arial"/>
              </a:rPr>
              <a:t>(морфологический</a:t>
            </a:r>
            <a:r>
              <a:rPr b="0" i="1" lang="ru-RU" sz="2400" spc="-1" strike="noStrike">
                <a:solidFill>
                  <a:srgbClr val="cc0066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касающийся внешнего вида или строения, т.е. формы).</a:t>
            </a:r>
            <a:r>
              <a:rPr b="0" lang="ru-RU" sz="2400" spc="-1" strike="noStrike">
                <a:solidFill>
                  <a:srgbClr val="000070"/>
                </a:solidFill>
                <a:latin typeface="Arial"/>
              </a:rPr>
              <a:t> С помощью этого метода за короткое время ему удалось получить значительное количество оригинальных технических решений в ракетостроении, чем он очень удивил ведущих специалистов и руководителей своей 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71da"/>
                </a:solidFill>
                <a:latin typeface="Arial"/>
              </a:rPr>
              <a:t>  </a:t>
            </a:r>
            <a:r>
              <a:rPr b="0" i="1" lang="en-US" sz="4400" spc="-1" strike="noStrike">
                <a:solidFill>
                  <a:srgbClr val="ff71da"/>
                </a:solidFill>
                <a:latin typeface="Arial"/>
              </a:rPr>
              <a:t>Суть метода</a:t>
            </a:r>
            <a:r>
              <a:rPr b="0" i="1" lang="en-US" sz="3200" spc="-1" strike="noStrike">
                <a:solidFill>
                  <a:srgbClr val="00007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00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выявление нескольких морфологических (типовых, видовых, отличительных) признаков (параметров), значимых для решаемой задачи, и составление всех возможных сочетаний этих призн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Признаки можно расположить в форме таблицы, называемой </a:t>
            </a: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морфологическим ящиком (матрицей).</a:t>
            </a:r>
            <a:r>
              <a:rPr b="0" i="1" lang="en-US" sz="2800" spc="-1" strike="noStrike">
                <a:solidFill>
                  <a:srgbClr val="00007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Это позволяет лучше представить себе поисковое поле решения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В результате направленного и системного анализа генерируется новая информация, которая при простом переборе вариантов ускользает от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769680" cy="1487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8229600" cy="289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Этапы </a:t>
            </a:r>
            <a:br>
              <a:rPr sz="5400"/>
            </a:b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решения задачи </a:t>
            </a:r>
            <a:br>
              <a:rPr sz="4000"/>
            </a:b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с помощью морфологического анализа ее параме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69680" cy="1487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769680" cy="148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7696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1.  Выделяем все значимые для каждого из вариантов решения задачи парамет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2.   Определяем шкалу значимости для каждого параметра (факто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3. Экспертно оцениваем в баллах значимость каждого фактора в пределах выбранной шк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4.  Складываем экспертные оценки по всем параметрам и по сумме баллов определяем, какой из вариантов предпочтитель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71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Arial"/>
              </a:rPr>
              <a:t>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Решение задачи выбора профессии (или специальности) после окончания школы методом морфологического анализа. Допустим, ученика интересуют три професс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1) инженер-авиаконструкто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2) наладчик ЭВ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3) водитель грузовика на междугородных рей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0"/>
                </a:solidFill>
                <a:latin typeface="Arial"/>
              </a:rPr>
              <a:t>Эти номера вариантов профессий запишем в морфологическую матрицу . В каждой профессии есть свои достоинства и недостатки. Какую из них выбр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0"/>
                </a:solidFill>
                <a:latin typeface="Arial"/>
              </a:rPr>
              <a:t>Для решения задачи выберем наиболее значимые (для данного ученика) параметры и запишем их в морфологическую матрицу. Мы выбрали пять параметров, но их число может быть намного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0"/>
                </a:solidFill>
                <a:latin typeface="Arial"/>
              </a:rPr>
              <a:t>Во второй колонке запишем шкалу значимости (балл), по которой будем оценивать параметры. Необходимо отметить, что каждый из приведенных в примере параметров имеет разную значимость для разных людей. Поэтому при самостоятельном заполнении таблицы значения параметров будут различ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0"/>
                </a:solidFill>
                <a:latin typeface="Arial"/>
              </a:rPr>
              <a:t>В нашем примере наиболее значимый параметр — величина зарплаты, на втором месте — престижность и на третьем — возможность заниматься творческой работой. Остальные параметры оцениваются по более низким шка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580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23T19:11:0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